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12C-2953-49E5-B5A7-2DFEF214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5D1-464F-4C93-A2FE-F87559F8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1FE-A786-40ED-80E7-84F5D426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540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192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88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540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1192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50C-01D9-41E2-8B76-103C6F7F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1716-13A8-4585-9FCF-15CC99BC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2F3-90BA-42EE-8C94-C8AC109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BDAE-16D4-4C43-B726-59E84E64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257-6ED1-459A-93B3-DDBB4333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2405-0509-4BD9-A994-ABA53E5B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9A24-1176-4134-968B-92A22D0E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6130-371D-4A70-ACDB-E729310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C63-54F1-42B7-8D5D-FDB447D9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97FC-6223-405B-AE36-21EA389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3E66-562F-4EAD-9794-2F95A08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DEAD-FE16-4234-B9B5-A647589E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0C3B-9A78-4414-AE20-F89F993F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40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192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88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40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192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93BA-ADFD-474B-8C22-C5A692BF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B321-ED70-4842-B6F4-CCF3761F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AA47-352A-4703-B3B9-09F138CB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7A8E-B80A-4528-99AC-F74FDC9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0CBC-63A6-4A11-82C0-4619621B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132C-DC36-4BEC-87AD-E1EAB28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6BB-4DE8-4FDD-91E0-4C84894E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993E-82B3-4443-A89A-9F05908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D492-1B75-4B70-A560-B0289AB0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B0AF-EB85-4378-8D59-A2DD5A09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3CEA-ECED-43B8-A94B-0CF5B0D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E52B-5BC4-47F5-B4C2-A08CB6E9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1172-1483-4BE0-B203-5ADAF3FE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40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192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888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40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1192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0375-DE66-40FA-86DB-A550C5E0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0117-4194-4B92-9E75-3323E47A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A5B4-0D89-4CB9-9850-0F5C5765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A78C-1735-4AAF-A018-1F4713C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95F-9BDA-499F-BDD9-F558320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CC0A-219E-4E83-A306-736D5FCF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734C5-C4C9-4858-907C-57B1EC6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72B8-F503-4860-974A-8CD5EC5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5B327-09B7-4D40-91DB-1910DB5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6658-08A7-48EE-A137-228C460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FCD3-137A-4C87-AFBE-B0A57BE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2B31-19DD-4970-9FF9-14C8322D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D2A4-E429-4985-B94A-2B689787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7540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192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888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7540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1192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3219-2A24-49EC-B752-234293CA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970FD-92B0-4D9A-9FE5-2646A212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A13-CBDD-4543-B2E2-2656F657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BC0D-41D6-4F60-A6AE-153ECBB1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FDA3-B29F-4BD5-872B-F6C55E92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2D7A-4D7D-488D-B22F-70BD168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84DC-184A-4A06-881A-D0A13BE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D15C8-F249-44E7-9615-081EF326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C7253-22AE-4DA0-A8FA-7CBA8CF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AF87-4760-4939-B87B-FCD3972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5875-6463-49ED-995D-A445F77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46B8-C762-4EF0-8206-0080B99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E8AC-F6B2-4C1A-99B4-2ECF6B7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EF2-4F97-46DE-B818-1BB619D8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7540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192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88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27540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1192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8DC9-177C-436D-9472-B17198FB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44D9-41EC-4F6F-A95E-6B5DF303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1060E-9F06-4E4F-9DCA-A256159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B5D2E-1360-4EB9-94D8-2D192E45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3368E-41EE-4BB9-B474-F104318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CC66-6D07-4000-AD16-F5E227F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87445-1C33-40E6-83B7-72BBBC3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79D4-160B-49C1-8CFF-8BF40B7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6337-F9FE-485D-B2B2-DF11060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D76CB-56CA-4B3F-95A9-A99D165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197-2407-4CBF-A503-9A43CE0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5281-273A-4FCB-AA3B-D690FF10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6606D-8A3C-4AAC-8C29-A7E860E5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7540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19200" y="217296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888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7540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19200" y="5640120"/>
            <a:ext cx="2252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C1912-D153-4930-963F-1A42F9F1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72960" y="564012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113-6BAE-406A-BD61-FF1376E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80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72960" y="2172960"/>
            <a:ext cx="34131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8800" y="5640120"/>
            <a:ext cx="69948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B5D-B4BE-4198-AEA6-8CDF9BA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423720" y="8718480"/>
            <a:ext cx="4200840" cy="1351080"/>
          </a:xfrm>
          <a:custGeom>
            <a:avLst/>
            <a:gdLst>
              <a:gd name="textAreaLeft" fmla="*/ 0 w 4200840"/>
              <a:gd name="textAreaRight" fmla="*/ 4201200 w 420084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12920" y="8710560"/>
            <a:ext cx="3136680" cy="1368360"/>
          </a:xfrm>
          <a:custGeom>
            <a:avLst/>
            <a:gdLst>
              <a:gd name="textAreaLeft" fmla="*/ 0 w 3136680"/>
              <a:gd name="textAreaRight" fmla="*/ 3137040 w 31366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8485200"/>
            <a:ext cx="2908080" cy="1596960"/>
            <a:chOff x="-12600" y="8485200"/>
            <a:chExt cx="2908080" cy="159696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8485200"/>
              <a:ext cx="29080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36520" y="9418680"/>
              <a:ext cx="14446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2600" y="8478720"/>
            <a:ext cx="2908080" cy="1616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717880" y="9398160"/>
            <a:ext cx="1631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722760" y="9398160"/>
            <a:ext cx="1998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350120" y="9398160"/>
            <a:ext cx="3110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3CE-07D6-4EFC-83BD-67005A4604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6840360"/>
            <a:ext cx="77788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7264440"/>
            <a:ext cx="7775640" cy="2805120"/>
            <a:chOff x="-3240" y="7264440"/>
            <a:chExt cx="7775640" cy="2805120"/>
          </a:xfrm>
        </p:grpSpPr>
        <p:sp>
          <p:nvSpPr>
            <p:cNvPr id="49" name="Freeform 16"/>
            <p:cNvSpPr/>
            <p:nvPr/>
          </p:nvSpPr>
          <p:spPr>
            <a:xfrm>
              <a:off x="1441080" y="7264440"/>
              <a:ext cx="6325200" cy="713880"/>
            </a:xfrm>
            <a:custGeom>
              <a:avLst/>
              <a:gdLst>
                <a:gd name="textAreaLeft" fmla="*/ 0 w 6325200"/>
                <a:gd name="textAreaRight" fmla="*/ 6325560 w 632520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38880" y="7680600"/>
              <a:ext cx="7727400" cy="1154160"/>
            </a:xfrm>
            <a:custGeom>
              <a:avLst/>
              <a:gdLst>
                <a:gd name="textAreaLeft" fmla="*/ 0 w 7727400"/>
                <a:gd name="textAreaRight" fmla="*/ 7727760 w 772740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7327080"/>
              <a:ext cx="7769880" cy="2742480"/>
              <a:chOff x="2520" y="7327080"/>
              <a:chExt cx="7769880" cy="27424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7327080"/>
                <a:ext cx="7769880" cy="27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733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7314840"/>
              <a:ext cx="7775640" cy="11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717880" y="9398160"/>
            <a:ext cx="1631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722760" y="9398160"/>
            <a:ext cx="1998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350120" y="9398160"/>
            <a:ext cx="3110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E90-8C37-41E9-A6EF-2E9E3FFA7F9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423720" y="8718480"/>
            <a:ext cx="4200840" cy="1351080"/>
          </a:xfrm>
          <a:custGeom>
            <a:avLst/>
            <a:gdLst>
              <a:gd name="textAreaLeft" fmla="*/ 0 w 4200840"/>
              <a:gd name="textAreaRight" fmla="*/ 4201200 w 420084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12920" y="8710560"/>
            <a:ext cx="3136680" cy="1368360"/>
          </a:xfrm>
          <a:custGeom>
            <a:avLst/>
            <a:gdLst>
              <a:gd name="textAreaLeft" fmla="*/ 0 w 3136680"/>
              <a:gd name="textAreaRight" fmla="*/ 3137040 w 31366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8485200"/>
            <a:ext cx="2908080" cy="1596960"/>
            <a:chOff x="-12600" y="8485200"/>
            <a:chExt cx="2908080" cy="159696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8485200"/>
              <a:ext cx="29080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36520" y="9418680"/>
              <a:ext cx="14446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2600" y="8478720"/>
            <a:ext cx="2908080" cy="161604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090960" y="4408560"/>
            <a:ext cx="155520" cy="334800"/>
          </a:xfrm>
          <a:custGeom>
            <a:avLst/>
            <a:gdLst>
              <a:gd name="textAreaLeft" fmla="*/ 0 w 155520"/>
              <a:gd name="textAreaRight" fmla="*/ 155520 w 155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2932200" y="4408560"/>
            <a:ext cx="155520" cy="334800"/>
          </a:xfrm>
          <a:custGeom>
            <a:avLst/>
            <a:gdLst>
              <a:gd name="textAreaLeft" fmla="*/ 0 w 155520"/>
              <a:gd name="textAreaRight" fmla="*/ 155520 w 155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717880" y="9398160"/>
            <a:ext cx="1631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722760" y="9398160"/>
            <a:ext cx="1998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350120" y="9398160"/>
            <a:ext cx="3110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4E90-73FA-4F45-BC72-F380F9A8CA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5717880" y="9398160"/>
            <a:ext cx="1631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722760" y="9398160"/>
            <a:ext cx="1998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350120" y="9398160"/>
            <a:ext cx="3110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F84C-5B50-453C-8A4C-3DA1035B797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5717880" y="9398160"/>
            <a:ext cx="1631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722760" y="9398160"/>
            <a:ext cx="1998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7350120" y="9398160"/>
            <a:ext cx="3110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60CE-3F6A-4D50-90C8-A12A71A44E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423720" y="8718480"/>
            <a:ext cx="4200840" cy="1351080"/>
          </a:xfrm>
          <a:custGeom>
            <a:avLst/>
            <a:gdLst>
              <a:gd name="textAreaLeft" fmla="*/ 0 w 4200840"/>
              <a:gd name="textAreaRight" fmla="*/ 4201200 w 420084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12920" y="8710560"/>
            <a:ext cx="3136680" cy="1368360"/>
          </a:xfrm>
          <a:custGeom>
            <a:avLst/>
            <a:gdLst>
              <a:gd name="textAreaLeft" fmla="*/ 0 w 3136680"/>
              <a:gd name="textAreaRight" fmla="*/ 3137040 w 31366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8485200"/>
            <a:ext cx="2908080" cy="1596960"/>
            <a:chOff x="-12600" y="8485200"/>
            <a:chExt cx="2908080" cy="159696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8485200"/>
              <a:ext cx="29080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36520" y="9418680"/>
              <a:ext cx="14446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2600" y="8478720"/>
            <a:ext cx="2908080" cy="161604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7364520" y="7316640"/>
            <a:ext cx="155520" cy="335160"/>
          </a:xfrm>
          <a:custGeom>
            <a:avLst/>
            <a:gdLst>
              <a:gd name="textAreaLeft" fmla="*/ 0 w 155520"/>
              <a:gd name="textAreaRight" fmla="*/ 155520 w 1555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7205760" y="7316640"/>
            <a:ext cx="155520" cy="335160"/>
          </a:xfrm>
          <a:custGeom>
            <a:avLst/>
            <a:gdLst>
              <a:gd name="textAreaLeft" fmla="*/ 0 w 155520"/>
              <a:gd name="textAreaRight" fmla="*/ 155520 w 1555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88800" y="2172960"/>
            <a:ext cx="69948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717880" y="9398160"/>
            <a:ext cx="1631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722760" y="9398160"/>
            <a:ext cx="1998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350120" y="9398160"/>
            <a:ext cx="3110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8477-1D2A-4F36-9E32-E1A9E19E5D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579600" y="2567160"/>
            <a:ext cx="7289640" cy="2693880"/>
          </a:xfrm>
          <a:prstGeom prst="rect">
            <a:avLst/>
          </a:prstGeom>
          <a:ln w="0">
            <a:noFill/>
          </a:ln>
        </p:spPr>
      </p:pic>
      <p:pic>
        <p:nvPicPr>
          <p:cNvPr id="277" name="Subtitle 2" descr=""/>
          <p:cNvPicPr/>
          <p:nvPr/>
        </p:nvPicPr>
        <p:blipFill>
          <a:blip r:embed="rId2"/>
          <a:stretch/>
        </p:blipFill>
        <p:spPr>
          <a:xfrm>
            <a:off x="579600" y="5181480"/>
            <a:ext cx="678492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LOGO"/>
          <p:cNvPicPr/>
          <p:nvPr/>
        </p:nvPicPr>
        <p:blipFill>
          <a:blip r:embed="rId1"/>
          <a:stretch/>
        </p:blipFill>
        <p:spPr>
          <a:xfrm>
            <a:off x="1555920" y="380880"/>
            <a:ext cx="4660560" cy="842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04920" y="914400"/>
            <a:ext cx="7223040" cy="830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Issuing Entity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hase Issuance Trus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Sponsor, Depositor, Originator, Administrato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nd Servicer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hase Bank USA, National Associati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Owner Truste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Wilmington Trust Compan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Indenture Trustee and Collateral Agent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Wells Fargo Bank, National Associati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Expected Issuance D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ebruary 22, 2006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nnual Servicing Fe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1.5%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learance and Settlement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TC/Clearstream/Eurocle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Trust Assets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First USA Master Trust collateral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ertificate, the Chase Master Trust collater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ertificate, receivables originated 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MasterCard® and VISA® accounts, including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recoveries on charged-off receivables 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interchang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Notes Offered by this Prospectus Supplement: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ass A(2006-2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Principal Amount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$425,000,000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nticipated Ratings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aa/AAA/AA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Moody’s/Standard &amp; Poor’s/Fitch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Enhancement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ubordination of the Class B notes and th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ass C not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lass A Required Subordinated Amount of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7.80347% of the adjusted outstanding doll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lass C Notes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rincipal amount of the Class A(2006-2)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lass A Required Subordinated Amount of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7.80347% of the adjusted outstanding doll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lass B Notes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rincipal amount of the Class A(2006-2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ggregate Outstanding Dollar Principal Am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of CHASEseries notes on Expected Issuance Da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including the Class A(2006-2) notes)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$40,810,000,000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ggregate Outstanding Dollar Principal Am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of Class A notes on Expected Issuance Da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(including the Class A(2006-2) notes)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$33,825,000,000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ggregate Outstanding Dollar Principal Am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of Class B notes on Expected Issuance D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$3,700,000,000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384120" y="396720"/>
            <a:ext cx="7004160" cy="45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04920" y="380880"/>
            <a:ext cx="7223040" cy="883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ggregate Outstanding Dollar Principal Am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of Class C notes on Expected Issuance D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$3,285,000,00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Interest R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5.16% p.a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Interest Accrual Method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30/360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Interest Payment Dates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Monthly on the 1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(unless the 1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is not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usiness day, in which case it will be the nex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usiness day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First Interest Payment D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March 15, 2006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Scheduled Principal Payment D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February 16, 2016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Legal Maturity Dat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pril 16, 2018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27160" indent="-227160">
              <a:tabLst>
                <a:tab algn="l" pos="0"/>
                <a:tab algn="l" pos="45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USIP/ISIN/Common Code: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161571BC7/US161571BC79/024507513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0:11:18Z</dcterms:created>
  <dc:creator>Linnea B Pedelty</dc:creator>
  <dc:description/>
  <dc:language>en-US</dc:language>
  <cp:lastModifiedBy>Linnea B Pedelty</cp:lastModifiedBy>
  <dcterms:modified xsi:type="dcterms:W3CDTF">2010-07-05T16:28:56Z</dcterms:modified>
  <cp:revision>13</cp:revision>
  <dc:subject/>
  <dc:title>Chase USA</dc:title>
</cp:coreProperties>
</file>